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216E-53CA-4F0C-94C4-EA10F08A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3FBD-A82F-4988-A7C7-9CF9745A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9278-D0E0-4B28-AAC9-E6B382ED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F291-F753-47CB-9F1C-0AA1C317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0B2B-2469-48CC-831F-1A70EC6A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4DC5-5B8F-444B-BED4-121B0098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2B8F-640A-4E0E-9458-B686C764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60E2-5C2A-4AD9-89CF-11C6874E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77E4-EC02-4950-844D-813E0C93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C17A-1923-457F-92FD-C56EA1FC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3E2C-1A87-44E6-8666-84A896EA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6A66-7619-4FB3-A9C4-0DF2C37D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702F-2AFC-4C2B-BC47-1AA2104CD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УНИВЕРЗИТЕТ У КРАГУЈЕВЦУ</a:t>
            </a:r>
            <a:br>
              <a:rPr sz="1200"/>
            </a:b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ФАКУЛТЕТ МЕДИЦИНСКИХ НА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577960" y="4797360"/>
            <a:ext cx="414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Проф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. др Владимир Јаковљеви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2826000" y="2276640"/>
            <a:ext cx="36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окторске академске студ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3203640" y="260280"/>
            <a:ext cx="169056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Dfso"/>
          <p:cNvPicPr/>
          <p:nvPr/>
        </p:nvPicPr>
        <p:blipFill>
          <a:blip r:embed="rId2"/>
          <a:stretch/>
        </p:blipFill>
        <p:spPr>
          <a:xfrm>
            <a:off x="4932360" y="404640"/>
            <a:ext cx="1071720" cy="104796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9" descr=""/>
          <p:cNvPicPr/>
          <p:nvPr/>
        </p:nvPicPr>
        <p:blipFill>
          <a:blip r:embed="rId3"/>
          <a:stretch/>
        </p:blipFill>
        <p:spPr>
          <a:xfrm>
            <a:off x="171360" y="3005280"/>
            <a:ext cx="897912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та сугеришу међународне директив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280" y="1268280"/>
            <a:ext cx="836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3 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бољшање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едукција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3 R’s – Refinement, Reduction, Replac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971640" y="3068640"/>
            <a:ext cx="75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дукциј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тратегија истраживања у коме се користи мањи број животиња а пружа иста количина информ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ише истраживачких тимова могу користити органе и ткива исте животиње.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мала пилотска студија може да укаже на адекватан број животиња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та сугеришу међународне директив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39280" y="1268280"/>
            <a:ext cx="836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3 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бољшање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едукција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3 R’s – Refinement, Reduction, Replac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971640" y="3068640"/>
            <a:ext cx="75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ме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потреба експерименталних система који не користе читаве, живе животиње може се сматрати заме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ке су релативне замене, пошто користе ћелије, ткива и орг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руге су апсолутне алтернативе, јер не захтевају биолошки материјал (копјутерска симулациј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тернативе понекад у потпуности замењују животиње, а некада утичу на смењенје броја употребљених животињ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гинуће животи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9280" y="1844280"/>
            <a:ext cx="836316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бол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з што бржи губитак свести и само жртво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узданом, иреверзибилном мето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з минималан стрес за животињу и онога ко жртву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бедно за онога ко жртву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патибилно са експеримен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једноста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кономски прихватљи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Методе жртвовања животињ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81200" y="1989000"/>
            <a:ext cx="836280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предозирање анестет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цервикална дислок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нтузија лоба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гиљотина за животи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1752480" y="765000"/>
            <a:ext cx="73915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обр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абораторијс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а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900000" y="1844640"/>
            <a:ext cx="691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обезбеђивање зашт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обезбеђивање квал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НЦИП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организациј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боратор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услов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бедност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бораториј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ринцип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ковођењ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бораториј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одговорност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ководиоц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с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одговорност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об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кључених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езбеђивањ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вал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ринцип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ковањ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еђајим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емикалијам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вотињам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ским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ериј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ринцип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увањ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ат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ринцип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лагањ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олошког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емијског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п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Ð¡ÑÐ¾Ð´Ð½Ð° ÑÐ»Ð¸ÐºÐ°"/>
          <p:cNvPicPr/>
          <p:nvPr/>
        </p:nvPicPr>
        <p:blipFill>
          <a:blip r:embed="rId1"/>
          <a:stretch/>
        </p:blipFill>
        <p:spPr>
          <a:xfrm>
            <a:off x="5724360" y="1341360"/>
            <a:ext cx="22766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900000" y="620640"/>
            <a:ext cx="73915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инципи добр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абораторијс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ак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Ð ÐµÐ·ÑÐ»ÑÐ°Ñ ÑÐ»Ð¸ÐºÐ° Ð·Ð° good laboratory practice"/>
          <p:cNvPicPr/>
          <p:nvPr/>
        </p:nvPicPr>
        <p:blipFill>
          <a:blip r:embed="rId1"/>
          <a:srcRect l="0" t="20560" r="0" b="21205"/>
          <a:stretch/>
        </p:blipFill>
        <p:spPr>
          <a:xfrm>
            <a:off x="324000" y="2205000"/>
            <a:ext cx="8388360" cy="34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2124000" y="765000"/>
            <a:ext cx="73915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абораторијс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нев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250920" y="1773360"/>
            <a:ext cx="777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ђењ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аљног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бораторијског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невника представљ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ставн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аког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учног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д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дневник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р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итљив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умљив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токол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рај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нос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не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жљиво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уван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ац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исн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ућ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траживањ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ублик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жљиво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уван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ац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блем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з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ло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вих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тањ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зултатим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ед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имум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Ð¡ÑÐ¾Ð´Ð½Ð° ÑÐ»Ð¸ÐºÐ°"/>
          <p:cNvPicPr/>
          <p:nvPr/>
        </p:nvPicPr>
        <p:blipFill>
          <a:blip r:embed="rId1"/>
          <a:stretch/>
        </p:blipFill>
        <p:spPr>
          <a:xfrm>
            <a:off x="6659640" y="2276640"/>
            <a:ext cx="2233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908000" y="2421000"/>
            <a:ext cx="5472360" cy="3024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rcRect l="10154" t="16531" r="24542" b="7672"/>
          <a:stretch/>
        </p:blipFill>
        <p:spPr>
          <a:xfrm>
            <a:off x="250920" y="907920"/>
            <a:ext cx="8497800" cy="55454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4500720" y="2133720"/>
            <a:ext cx="4319280" cy="20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4500720" y="4365720"/>
            <a:ext cx="4319280" cy="2158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700360" y="333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ТВРДА ЕТИЧКИХ ПРИНЦ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523880" y="1831680"/>
            <a:ext cx="60962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Content Placeholder 3"/>
          <p:cNvGraphicFramePr/>
          <p:nvPr/>
        </p:nvGraphicFramePr>
        <p:xfrm>
          <a:off x="1763640" y="12600"/>
          <a:ext cx="5289480" cy="68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2600"/>
                    <a:ext cx="528948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Content Placeholder 3"/>
          <p:cNvGraphicFramePr/>
          <p:nvPr/>
        </p:nvGraphicFramePr>
        <p:xfrm>
          <a:off x="1763640" y="12600"/>
          <a:ext cx="5289480" cy="68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2600"/>
                    <a:ext cx="528948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3" descr=""/>
          <p:cNvPicPr/>
          <p:nvPr/>
        </p:nvPicPr>
        <p:blipFill>
          <a:blip r:embed="rId1"/>
          <a:stretch/>
        </p:blipFill>
        <p:spPr>
          <a:xfrm>
            <a:off x="171360" y="2639880"/>
            <a:ext cx="86551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Content Placeholder 3"/>
          <p:cNvGraphicFramePr/>
          <p:nvPr/>
        </p:nvGraphicFramePr>
        <p:xfrm>
          <a:off x="1763640" y="12600"/>
          <a:ext cx="5289480" cy="68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2600"/>
                    <a:ext cx="528948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Content Placeholder 3"/>
          <p:cNvGraphicFramePr/>
          <p:nvPr/>
        </p:nvGraphicFramePr>
        <p:xfrm>
          <a:off x="1547640" y="-50760"/>
          <a:ext cx="5472360" cy="689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-50760"/>
                    <a:ext cx="5472360" cy="68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Content Placeholder 3"/>
          <p:cNvGraphicFramePr/>
          <p:nvPr/>
        </p:nvGraphicFramePr>
        <p:xfrm>
          <a:off x="1692360" y="0"/>
          <a:ext cx="52988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0"/>
                    <a:ext cx="5298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Content Placeholder 3"/>
          <p:cNvGraphicFramePr/>
          <p:nvPr/>
        </p:nvGraphicFramePr>
        <p:xfrm>
          <a:off x="1692360" y="0"/>
          <a:ext cx="52988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0"/>
                    <a:ext cx="5298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Content Placeholder 3"/>
          <p:cNvGraphicFramePr/>
          <p:nvPr/>
        </p:nvGraphicFramePr>
        <p:xfrm>
          <a:off x="1835280" y="0"/>
          <a:ext cx="5289480" cy="68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0"/>
                    <a:ext cx="528948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Content Placeholder 3"/>
          <p:cNvGraphicFramePr/>
          <p:nvPr/>
        </p:nvGraphicFramePr>
        <p:xfrm>
          <a:off x="1979640" y="0"/>
          <a:ext cx="5289480" cy="68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0"/>
                    <a:ext cx="528948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Content Placeholder 3"/>
          <p:cNvGraphicFramePr/>
          <p:nvPr/>
        </p:nvGraphicFramePr>
        <p:xfrm>
          <a:off x="1763640" y="0"/>
          <a:ext cx="5299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0"/>
                    <a:ext cx="5299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Content Placeholder 3"/>
          <p:cNvGraphicFramePr/>
          <p:nvPr/>
        </p:nvGraphicFramePr>
        <p:xfrm>
          <a:off x="1763640" y="0"/>
          <a:ext cx="5299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0"/>
                    <a:ext cx="5299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Content Placeholder 3"/>
          <p:cNvGraphicFramePr/>
          <p:nvPr/>
        </p:nvGraphicFramePr>
        <p:xfrm>
          <a:off x="1835280" y="12600"/>
          <a:ext cx="5289480" cy="68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2600"/>
                    <a:ext cx="528948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Content Placeholder 3"/>
          <p:cNvGraphicFramePr/>
          <p:nvPr/>
        </p:nvGraphicFramePr>
        <p:xfrm>
          <a:off x="1763640" y="0"/>
          <a:ext cx="5289480" cy="68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0"/>
                    <a:ext cx="528948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9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РЕГУЛАТИВА ЗА РАД СА ЕКСПЕРИМЕНТАЛНИМ ЖИВОТИЊАМА</a:t>
            </a:r>
            <a:br>
              <a:rPr sz="1600"/>
            </a:b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*ИСТОРИЈАТ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71680" y="1916280"/>
            <a:ext cx="79293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ламент  Енглеске  18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ксперимент се може предузети само ако доноси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нова знањ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ја битно придоносе очувању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експеримент не може предузимати особа која нема дозволу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лиценц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за то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експеримент се не може предузимати са циљем обучавања у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мануелној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р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експерименти се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меју изводити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јавн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 обзира на новчану кори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Content Placeholder 3"/>
          <p:cNvGraphicFramePr/>
          <p:nvPr/>
        </p:nvGraphicFramePr>
        <p:xfrm>
          <a:off x="1908000" y="0"/>
          <a:ext cx="5299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0"/>
                    <a:ext cx="5299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Content Placeholder 3"/>
          <p:cNvGraphicFramePr/>
          <p:nvPr/>
        </p:nvGraphicFramePr>
        <p:xfrm>
          <a:off x="1908000" y="12600"/>
          <a:ext cx="5289840" cy="68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2600"/>
                    <a:ext cx="528984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Content Placeholder 3"/>
          <p:cNvGraphicFramePr/>
          <p:nvPr/>
        </p:nvGraphicFramePr>
        <p:xfrm>
          <a:off x="2050920" y="0"/>
          <a:ext cx="5289840" cy="68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28984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Content Placeholder 3"/>
          <p:cNvGraphicFramePr/>
          <p:nvPr/>
        </p:nvGraphicFramePr>
        <p:xfrm>
          <a:off x="1908000" y="0"/>
          <a:ext cx="5289840" cy="68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0"/>
                    <a:ext cx="528984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Content Placeholder 3"/>
          <p:cNvGraphicFramePr/>
          <p:nvPr/>
        </p:nvGraphicFramePr>
        <p:xfrm>
          <a:off x="1979640" y="0"/>
          <a:ext cx="5299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0"/>
                    <a:ext cx="5299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Content Placeholder 3"/>
          <p:cNvGraphicFramePr/>
          <p:nvPr/>
        </p:nvGraphicFramePr>
        <p:xfrm>
          <a:off x="1908000" y="0"/>
          <a:ext cx="5299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0"/>
                    <a:ext cx="5299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Content Placeholder 3"/>
          <p:cNvGraphicFramePr/>
          <p:nvPr/>
        </p:nvGraphicFramePr>
        <p:xfrm>
          <a:off x="1979640" y="12600"/>
          <a:ext cx="5289480" cy="68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2600"/>
                    <a:ext cx="528948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5916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ТИЧКИ АПСЕКТИ  РАДА СА ЛАБОРАТОРИЈСКИМ ЖИВОТИЊАМА – ПОЧИЊУ ДОЛАСКОМ НА ПОС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042920" y="765000"/>
            <a:ext cx="7129440" cy="1008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042920" y="220500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ЗАШТО ПРВО КАДА ДОЂЕМ НА ПОСАО ОБИЂЕМ ЖИВОТИЊ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042920" y="2060640"/>
            <a:ext cx="7129440" cy="1008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042920" y="34290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ЗАТО ШТО ЈЕ ТО ЕСЕНЦИЈАЛАН КОРАК У СВАКОМ ИСТРАЖИВАЊ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042920" y="3284640"/>
            <a:ext cx="7129440" cy="1008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116000" y="458136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ИМЕР: КАКО МОГУ ДА РАДИМ СА ГЛАДНИМ И ЖЕДНИМ ЖИВОТИЊАМ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1042920" y="4437000"/>
            <a:ext cx="7129440" cy="1008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ТИЧКИ ПРИНЦИП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тман  животиња (узгајање, руковање, ескперименталне процедуре...) – кључно за квалитет истражи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ештај животиња (виваријум адекватних карактерист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рој животиња – увек што је могуће мањи бро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авданост употребе животиња (да ли постоје алтернативе-јефтиније и поуздане: компјутерске стимулације, културе ћелија...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ТИЧКЕ КОМИС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280" y="1268280"/>
            <a:ext cx="836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оје у свакој интитуцији у којој се спроводи истражи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так да испита и одобри извођење експеримента са етичког асп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 ли ће се пројектом остварити предвиђени циљев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 ли је предложена врста животиња одговарајућ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 ли њихова употреба оправда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 ли постоји патња животиња (привремена или трајна неспособност, смрт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 ли експерименталне процедуаре обухватају аналгезијау и анестезиј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rcRect l="15215" t="11437" r="14498" b="6250"/>
          <a:stretch/>
        </p:blipFill>
        <p:spPr>
          <a:xfrm>
            <a:off x="0" y="476280"/>
            <a:ext cx="914544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ТИЧКЕ КОМИС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9280" y="1268280"/>
            <a:ext cx="836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чно дефинисани критеријуми (образци који се попуњавај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ви ко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ТИЧКА КОМИСИЈ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ЗАШТИТУ ДОБРОБИТИ ОГЛЕДНИХ ЖИВОТИЊА ФАКУЛТЕТА МЕДИЦИНСКИХ НА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 ко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ТИЧКА КОМИСИЈ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СТАРСТВА ПОЉОПРИВРЕДЕ И ЗАШТИТЕ ЖИВОТНЕ СРЕДИНЕ ЗА ИЗВОЂЕЊЕ ЕКСПЕРИМЕНТА НА ЖИВОТИЊ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обрено истражи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wn Arrow 3"/>
          <p:cNvSpPr/>
          <p:nvPr/>
        </p:nvSpPr>
        <p:spPr>
          <a:xfrm>
            <a:off x="1332000" y="2924280"/>
            <a:ext cx="287280" cy="576000"/>
          </a:xfrm>
          <a:prstGeom prst="downArrow">
            <a:avLst>
              <a:gd name="adj1" fmla="val 50000"/>
              <a:gd name="adj2" fmla="val 49986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Down Arrow 4"/>
          <p:cNvSpPr/>
          <p:nvPr/>
        </p:nvSpPr>
        <p:spPr>
          <a:xfrm>
            <a:off x="1332000" y="4797360"/>
            <a:ext cx="287280" cy="576360"/>
          </a:xfrm>
          <a:prstGeom prst="downArrow">
            <a:avLst>
              <a:gd name="adj1" fmla="val 50000"/>
              <a:gd name="adj2" fmla="val 50017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та сугеришу међународне директив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9280" y="1268280"/>
            <a:ext cx="836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3 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illiam Russell and Rex Burch 195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бољшање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едукција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3 R’s – Refinement, Reduction, Replac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539640" y="2781360"/>
            <a:ext cx="7848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бољшање</a:t>
            </a: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роцедур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ђењ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ксперименталн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вотињ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њен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рт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ес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ањил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имум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бољшао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валитетаживот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тањ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тик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ћ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валитет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учног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д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обогаћењ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лов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талам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ксперименталн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вотињ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тањ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вца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тонск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тиј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везим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цов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јим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криј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умен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рачк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чић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.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ажно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бораторијско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обљ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ро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нирано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петентно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ковањ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вотињам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илан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ос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вотињ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анестзиј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гезиј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истит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гућ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еутаназија када је потреб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7T08:06:34Z</dcterms:created>
  <dc:creator>Prodekani 2</dc:creator>
  <dc:description/>
  <dc:language>en-US</dc:language>
  <cp:lastModifiedBy>Vladimir Zivkovic</cp:lastModifiedBy>
  <dcterms:modified xsi:type="dcterms:W3CDTF">2020-05-10T12:12:41Z</dcterms:modified>
  <cp:revision>82</cp:revision>
  <dc:subject/>
  <dc:title>Физиологија срца</dc:title>
</cp:coreProperties>
</file>